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E83D-E4A6-4BC2-8997-7D99DDAB7A3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C7BE-1692-42C5-99B7-0D679697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35DA-B18B-49AE-A729-11A8BA76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C48B4-6FFF-4FE1-B16F-B16AD747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3445-0E98-4FA7-BAF2-CBBE4E40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6FD0A-460C-4EE2-BB28-FB1D7451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12FBD-0F9B-4C1A-89C6-4B5EF27D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B6D18-D735-462F-98A3-71F42176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2E415-F7EC-4E91-A7EE-FCD83E7E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93BA2-A382-4869-A726-A33154F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491C-1A36-4C3F-8D54-631D3ED9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1F81-04FC-41F9-BBAF-1276EFBF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BCDC-FDAC-45D8-AEBB-5880D9C3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D521-9F1E-4AB1-8857-44B1F80F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1EE9D-3CBA-4D93-9F73-D6DE83A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CD73-E7A0-4CE7-8EA8-D8BC131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5594-885F-45C1-ADEB-CAE58264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CF603-AE1B-44E1-ADF6-4DC716DC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08DF4-2917-4C93-9F7A-456353BC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1D22BA-2762-4FCE-9C6D-52DDEA8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3E3CB-3595-4046-8848-222DD2BB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B181F-9382-4D31-80CF-595FECAE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DB1F0-FAC9-429D-B165-CD822099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2EEA-1AC0-4CFE-9267-BFC6BF0B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582432-F5FE-4696-A834-5FD1707A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EC45B-1085-4854-8FD8-02CF5FC5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7C638-7C6F-42FD-9452-6172B3D8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194BC-9E58-492D-94A5-664D7438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6CE57-3B31-4D97-B664-BA09C752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1F7F9-E8C6-467B-9CC2-9CB59370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E5E8A-D224-45D3-B3C4-BB5EFDB8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A658-EAEC-4C5B-AD51-DB28DCA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E6D1-F05C-434F-9939-6521A5D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7D8B7-AB5F-4A26-ADA0-E1E6B765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EC97-EE31-4286-91C9-480ED072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6F9B-5E0F-48BB-B5CA-A4FED0C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2701-6987-48D6-ACE9-40D4782D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A856-7739-4AD3-91D0-A40F82411D8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5FE-0277-4934-8AD9-DBDF76CB12FD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B745-94DC-4B78-A176-6363877D39E2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11A2-AD5B-4A73-A337-F67FCD2AE1A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401C-D737-4C1F-9DD1-42BB1D996F2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24BF-CF73-48F8-AD23-DAB08DB33919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chaffung eines Container - Tragwage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Berechn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1760" y="6093000"/>
            <a:ext cx="2797200" cy="461880"/>
            <a:chOff x="131760" y="6093000"/>
            <a:chExt cx="279720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760" y="6308640"/>
              <a:ext cx="278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de_2015-05-11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1760" y="6093000"/>
              <a:ext cx="82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kument 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1A45-D3AF-4215-AB3D-9E95FACE59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Alternative B  (Plan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BF9C-7050-4A79-A92E-A2FA0845755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49"/>
          <p:cNvSpPr/>
          <p:nvPr/>
        </p:nvSpPr>
        <p:spPr>
          <a:xfrm rot="20397600">
            <a:off x="6312960" y="786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69840" y="2292480"/>
            <a:ext cx="973620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rgebnisüberblick und Erläuter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itere notwendige Hebel / Aspek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wusst nicht berücksichtigte Aspekte haben folgenden Effekt:  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ä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apitalwer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ückgewinnungszeit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Jahre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Break-even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Jah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positive Werte:  Erlöse,    negative Werte:  Aufwand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Rückgewinnungszeit:  Anzahl der Jahre bis die Planungsvariante sich rechnet. Sinngemäß auch mit Gewinnschwelle oder Break-Even bezeichnet.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78c96"/>
                </a:solidFill>
                <a:latin typeface="Arial"/>
              </a:rPr>
              <a:t>Annuität:  durchschnittliche jährliche Kosten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6BC5-8D8B-483D-833E-DC2C913D258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nnzahl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antwortliche  Abteil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dhaltungs- Dokumentations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enquel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eränderung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Planungsvariante zu Weiterführungsvariant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nnzahl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fleistung zwischen der Radreprofilier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läuter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2460-EC56-4B24-999B-ECECCCFC31A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Ergebnisplanung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v-SE" sz="1300" spc="-1" strike="noStrike">
                <a:solidFill>
                  <a:srgbClr val="000000"/>
                </a:solidFill>
                <a:latin typeface="Arial"/>
              </a:rPr>
              <a:t>Delta der Variante „B“ zur Variante „A“ [= Null-Lini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CD61-94B3-47DE-AD93-552AC54640E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Textfeld 49"/>
          <p:cNvSpPr/>
          <p:nvPr/>
        </p:nvSpPr>
        <p:spPr>
          <a:xfrm rot="20397600">
            <a:off x="6161040" y="72360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46" name="Picture 11" descr=""/>
          <p:cNvPicPr/>
          <p:nvPr/>
        </p:nvPicPr>
        <p:blipFill>
          <a:blip r:embed="rId1"/>
          <a:stretch/>
        </p:blipFill>
        <p:spPr>
          <a:xfrm>
            <a:off x="930240" y="1488960"/>
            <a:ext cx="8010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afik  Rückgewinnungszeit  (Break-even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5D23-B064-4579-B72E-0459AE0CAB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Textfeld 49"/>
          <p:cNvSpPr/>
          <p:nvPr/>
        </p:nvSpPr>
        <p:spPr>
          <a:xfrm rot="20397600">
            <a:off x="5552280" y="38844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0" name="Picture 7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861084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mpfehlung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e Beschaffung des Container-Tragwagens des Herstellers B wird empfoh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wählte Variante / Empfehlung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grund der radial einstellbaren Radsätze ist die Verschleissrate der Räder geringer. Die Lebensdauer als auch die Reprofilierungszyklen sind dadurch deutlich lä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grund der höheren Qualität der Container Befestigungssystem ist der IH-Aufwand geringer gegenüber dem Container-Tragwagen des Herstellers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gründ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ückgewinnungszeit:  13 Jahr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lere Einsparung pro Jahr (Delta Annuität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lärung der finanziellen Option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raussetzungen für Umsetz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fstellen eines Beschaffungszeitpla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ustimmung durch das Controlling einholen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teres Vorgehen                         Termin/Verantwortl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9F8D-4E00-4ADE-A930-3124A0DB386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abe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64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65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Erstellt v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erfolgung der Umsetzung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68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69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0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1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Herstell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2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3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74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5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6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79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0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1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2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85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Freigegeben von Auftraggeber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86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87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8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.01.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2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393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4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5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hnbetreibe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99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0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Abteilung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1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um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06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4AB2-BFDA-49CC-AF77-D46BDA13736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schaffung von 85 neuen 60’ - Container – Trag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h erfolgter Qualitätsprüfung durch den Betreiber (Quality gate), verbleiben nur noch die Container – Tragwagen der beiden Anbieter A und B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nde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antwortung LCC-Berechnung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Auftrag v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09.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DB Office"/>
              </a:rPr>
              <a:t>Fertigstellung 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1.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Die Lebenszykluskosten (LCC) der beiden verbliebenen Varianten sind zu kalkulier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Kunde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usgangs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- Aufgabenstell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eckbrief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rsteller der LCC-Berechnung, Termin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6600" y="6419880"/>
            <a:ext cx="5834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ziert,  A = Abgestimmt  E = Entschieden,  V = Voraussetzung geschaffe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k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E          V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0E44-C23E-48F5-8825-33708D2B7C0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-Rahm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evant, aber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ßerhal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nerhalb Betracht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stgelegt am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urch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41600" y="2448000"/>
            <a:ext cx="15494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i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41600" y="3286080"/>
            <a:ext cx="15494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Container Befestigungs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6888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:  Radsatzwechsel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68880" y="328608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 Sgns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67080" y="4116240"/>
            <a:ext cx="143856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49520" y="4103640"/>
            <a:ext cx="1547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 380 Containerwage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tandhaltung anderer Komponenten des Wagen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ieverbrauch während des Betieb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rastruktur - Nutzungsentgel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adung / Entladu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Geschwindigkeit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0330-45A3-47CA-ACE3-50070A9CF3C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uktur des Produktionsmittels / Systemzusammenhänge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zeugrahmen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bauteil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hrwerk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dsatz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907720" y="4218840"/>
            <a:ext cx="178020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9573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907720" y="5515920"/>
            <a:ext cx="178020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Befestig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5360-78DC-44F0-A045-831E02C9468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49"/>
          <p:cNvSpPr/>
          <p:nvPr/>
        </p:nvSpPr>
        <p:spPr>
          <a:xfrm rot="20397600">
            <a:off x="675288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roffene LCC-Kostenblöck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955B-B017-45DD-B26D-8103216FA4A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feld 49"/>
          <p:cNvSpPr/>
          <p:nvPr/>
        </p:nvSpPr>
        <p:spPr>
          <a:xfrm rot="20397600">
            <a:off x="553356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32" name="Picture 20" descr=""/>
          <p:cNvPicPr/>
          <p:nvPr/>
        </p:nvPicPr>
        <p:blipFill>
          <a:blip r:embed="rId1"/>
          <a:stretch/>
        </p:blipFill>
        <p:spPr>
          <a:xfrm>
            <a:off x="104760" y="1550880"/>
            <a:ext cx="9698040" cy="500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2"/>
          <p:cNvSpPr/>
          <p:nvPr/>
        </p:nvSpPr>
        <p:spPr>
          <a:xfrm>
            <a:off x="271440" y="3789360"/>
            <a:ext cx="21826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5076720" y="3068640"/>
            <a:ext cx="221148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5105520" y="39654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ielsetzung &amp; Kurzbeschreibung je Variant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Zielsetzung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reduziertem Instandhaltungsaufwan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schaffung eines 60‘ Container-Tragwagens mit bekannten Eigenschaften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urzbeschreibung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glichen mit den existieren Wagentypen sind die Lebensdauer der Räder als auch die Reprofilierungszyklen größer.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Zuverlässigkeit der Container –Besfestigung ist signifikant höher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 niedrigeren Investitionskosten führen zu ähnlich hohen Instandhaltungskosten, wie derzeit üblich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C8E6-8B5A-4E97-AC0F-FD969C9854A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Textfeld 49"/>
          <p:cNvSpPr/>
          <p:nvPr/>
        </p:nvSpPr>
        <p:spPr>
          <a:xfrm rot="20397600">
            <a:off x="568620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arianten: Nennung der wesentlichen Unterschie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kulationszinssatz::            10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srate:                           3%  (k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ebensdauer des Waggons:   25 Jah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lere Jahreslaufleiistung:   115.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innahmen bleiben unverändert und gleich hoch für beide Varianten. Deshalb wird ausschließlich die Kostenstruktur der beiden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nten vergliche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inweise auf allgemeine Annahmen für alle Varianten, Erläuterungen und kritische Faktore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Radsätz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hrwerks - Typ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rehgestell mit zwei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hgestell mit zwei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ich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 einstellbaren Radsätze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 der Container-Besfestigung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bessert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zahl Container-Befestigungen pro Wag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C3D-7EB9-4CAF-B034-766CBD728CC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Textfeld 49"/>
          <p:cNvSpPr/>
          <p:nvPr/>
        </p:nvSpPr>
        <p:spPr>
          <a:xfrm rot="20397600">
            <a:off x="6017400" y="3999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ufstellung der Kostendate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osten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Weiterführ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lanungsvariant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Hersteller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.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.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inmali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Radwechs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ro Rad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92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äventive Instandhaltung: 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rsatz der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18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ro Container-Befestig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9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rstell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enschätz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orrektive Instandhaltung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dsatz - Reprofilierung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50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ro Radsatz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lle 275.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treib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Zyklu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el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lastbarkei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837-3E76-4873-AAA1-03F9BA7D470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Textfeld 49"/>
          <p:cNvSpPr/>
          <p:nvPr/>
        </p:nvSpPr>
        <p:spPr>
          <a:xfrm rot="20397600">
            <a:off x="4761720" y="423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Zahlungsreihe (Auszug) der Variante A (Weiterführungsvariante)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5A2-6F3F-43C8-9586-F8EA565C83A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Textfeld 49"/>
          <p:cNvSpPr/>
          <p:nvPr/>
        </p:nvSpPr>
        <p:spPr>
          <a:xfrm rot="20397600">
            <a:off x="6313320" y="936360"/>
            <a:ext cx="2020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ktives Beispi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1"/>
          <a:stretch/>
        </p:blipFill>
        <p:spPr>
          <a:xfrm>
            <a:off x="49320" y="2187720"/>
            <a:ext cx="98298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7T22:18:58Z</dcterms:modified>
  <cp:revision>109</cp:revision>
  <dc:subject/>
  <dc:title>Slide 0</dc:title>
</cp:coreProperties>
</file>