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EAAD-AFF3-435C-999F-93C73E6787C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D9CD-B689-4D1F-8EB1-84EA2848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ED46-1965-4D72-AAD0-F6CD9E64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0C03-91E0-40D3-B8C1-50FA66EE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EB33-0390-41B6-83A9-E3198EBF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EB7E9-773C-4EB7-9B5B-E4028567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B9296-8D84-4A1A-A948-C6CC6F0A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E639E-F46A-4D1B-AA73-169DAF96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85F36-C047-4883-B662-1D420696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7FCB4-2026-4E7A-A510-FFB6DF78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47271-2E60-4525-B96C-9EC099BF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3E9FB-18B3-4708-A60F-2ECAA5E4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FC74-8033-4606-BA5A-74C4DA88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F5F1F-1112-4954-B9C8-D705C16E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980C5-5170-40FF-A1D6-F7DFF1DA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66230-5B38-42A2-8FFF-9648F565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12271-5AAC-4BB1-BE90-ACA66570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9E4AC-3402-4097-80CE-41CC2843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CC434C-5094-4DC6-83EF-51776782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CF3F1F-408B-4785-989E-5A313FE3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675D4B-2A63-459A-A642-1A2FFD15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34D62E-ACFC-4836-B0FD-0D944073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72198B-7AA6-4776-BC35-C11FEBDC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EF72-074B-4066-96B8-D7F88D49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AA1537-ED62-49A4-8495-6FB4CEC3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6E26EB-66DC-4643-AF0B-C7A9FA00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B4BD44-BC79-499F-A97B-55C31578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E06B27-0BA9-4D74-B045-33F33DB3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B2BF33-EE7C-4CDA-AC2C-56490F57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626BDF-1C74-4C4F-85C4-C36FCEC1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CC2320-D5AA-47F3-BD6A-01276B35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85FE-621A-4627-AB14-3802557E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18E6-C6BA-4360-82CC-22B65527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931B-3634-4FB2-81E1-BBD8AD6E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6F00D-57C9-44FB-98DC-16D76289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50CE-96B5-4EFF-8D93-D3AB429F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1FC0-6DBA-4E1F-83D1-5698E6AE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4252-4C54-48CB-BF43-37AE99E1EF4A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02A6-C156-4990-AA18-3C51F4A0ADB0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5DD7-DB26-4108-934E-6402D7FB4233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38B1-D60D-44A1-B19C-63F4212BCE64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AA82-9697-4C10-AA51-166432BBDAD9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AE86-1702-4DFF-83DD-FDF800D709A8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chase of Container Wago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4280" y="6093000"/>
            <a:ext cx="2654280" cy="461880"/>
            <a:chOff x="134280" y="6093000"/>
            <a:chExt cx="265428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400" y="6308640"/>
              <a:ext cx="26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_2015-01-20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4280" y="6093000"/>
              <a:ext cx="102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cument title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AF3A-7069-4F24-A72D-EB861F8CFF2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20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B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14D4-5404-4DE1-89BE-8C74FFB015F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Textfeld 5"/>
          <p:cNvSpPr/>
          <p:nvPr/>
        </p:nvSpPr>
        <p:spPr>
          <a:xfrm rot="20397600">
            <a:off x="64339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22320" y="2255760"/>
            <a:ext cx="98838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view of results and comment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 essential aspect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ects intentionally left out of the analysis, the impact of which is as follows: (…)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y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 present value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eak-even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years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year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positive value:  revenue,    negative values: 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break-even:   number of years until the alternative option becomes advantageou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annuity:  average annual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D301-075D-46C7-A75A-748BF8E7A65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ponsible Departmen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ntenance documentation 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a Origi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ariation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alternative option to basic op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y Performance Indicato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leage between reprofiling wheel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26FF-EAD5-4785-B0B8-C41129C3526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7" name="Textfeld 1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it-and-loss chart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Delta of variant “B” in relation to variant “A” [= zero lin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2741-3B08-4026-833C-093E3E4FA23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1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3" name="Picture 303" descr=""/>
          <p:cNvPicPr/>
          <p:nvPr/>
        </p:nvPicPr>
        <p:blipFill>
          <a:blip r:embed="rId1"/>
          <a:stretch/>
        </p:blipFill>
        <p:spPr>
          <a:xfrm>
            <a:off x="878040" y="1446120"/>
            <a:ext cx="8132760" cy="5189760"/>
          </a:xfrm>
          <a:prstGeom prst="rect">
            <a:avLst/>
          </a:prstGeom>
          <a:ln w="0">
            <a:noFill/>
          </a:ln>
        </p:spPr>
      </p:pic>
      <p:sp>
        <p:nvSpPr>
          <p:cNvPr id="354" name="Textfeld 4"/>
          <p:cNvSpPr/>
          <p:nvPr/>
        </p:nvSpPr>
        <p:spPr>
          <a:xfrm rot="20397600">
            <a:off x="62053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eak-even char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9986-E5C8-445D-8B65-0984274D79C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Textfeld 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649440" y="1447920"/>
            <a:ext cx="859788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is recommended to purchase the container wagon made by company B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lected Option / Recommend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cause of the radial adjustability of the wheelsets, the wear rate of the wheels is lower and the lifetime of the wheels and the reprofiling cycle are therefore considerably lo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e to the higher quality of the container locks, maintenance expenditure is lower compared with the container wagon made by company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lanatory Statement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eak-even:     13 year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verage Annual Savings     (Delta Annuity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rify financial optio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econdition for Implement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a purchase time schedule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tain approval from financial controlling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rther Procedure        Target Date / Responsibiliti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B462-CC74-418C-8112-029FD462E6C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0" name="Textfeld 1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roval 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73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Compiled by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74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Traceability of implementati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75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76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9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0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1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82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5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6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7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8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2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93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alidated by client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94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95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9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0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401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6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7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8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9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0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1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2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3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14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1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2047-9EDE-460F-A65C-C71A5CC1150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6" name="Textfeld 49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chase of 85 new container flat wagons, each carrying 60’ in total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operator’s quality gate (filter) has been applied, only the container flat wagons of the two companies A and B remai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onsible for the LCC calculation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s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/09/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ishe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/01/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Life Cycle Costs of both remaining wagons are to be calculat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Client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arting 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tas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iginator of the LCC calculation, dat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7320" y="6419880"/>
            <a:ext cx="494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ed,  A = Agreed  D = Decided,  P = Preconditions in place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c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D          P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592F-1238-499D-ADD4-F59B02699B3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 Framework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t relevant / relevant, but not part of the 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ained in the 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termined on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y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7004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7004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container locking 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5448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 replacement of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5448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single Sgns-type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53040" y="41162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76520" y="40766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-type 380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of other parts of the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consumption while operat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access charg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ading / unload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speed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88CB-36E5-452D-902D-3F1A605B6DF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3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Breakdown Structure / System Environment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ssis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unted par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carriag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else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872800" y="4218840"/>
            <a:ext cx="179604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872800" y="5515920"/>
            <a:ext cx="181512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2C4E-606E-4E6D-A85F-7BDF6B1FD20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20"/>
          <p:cNvSpPr/>
          <p:nvPr/>
        </p:nvSpPr>
        <p:spPr>
          <a:xfrm rot="20397600">
            <a:off x="628164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61468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. Oper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703600" y="1944720"/>
            <a:ext cx="2178000" cy="41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1 Energ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2 Staf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3 Clean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4 Making availa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 Insurance / 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t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6 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 Infrastructure u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e segmen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bl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track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ipment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04180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I. Maintenan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472520" y="1484280"/>
            <a:ext cx="233820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V. Product Failu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548480" y="1936800"/>
            <a:ext cx="21481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n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1  Product 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3  Malfunc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plann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1  Produc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3  Malfun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0160" y="1496880"/>
            <a:ext cx="2315880" cy="468180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chase 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16080" y="1949400"/>
            <a:ext cx="2116080" cy="41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One-off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Recurrent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assembly 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ommissioning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116680" y="1936800"/>
            <a:ext cx="212868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0 “One-off” prepar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ection / Diagnostic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4 Condition-bas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7 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system for vehicl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CC cost blocks used for the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49400" y="6194520"/>
            <a:ext cx="651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)  For simplicity’s sake, the term “purchase” also comprises residual costs as well as disposal / further utilisation.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72880" y="2998800"/>
            <a:ext cx="218304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5097600" y="4092480"/>
            <a:ext cx="2182680" cy="37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5089680" y="31590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B049-8CCB-47C9-9B57-FEF41641A16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Textfeld 15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urpose &amp; brief description of each op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reduced maintenance expenditure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well-known characteristics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red to the existing wagon type, both the lifetime of the wheels and the reprofiling cycle are extended. The reliability of container lockings will be significantly improve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ower investment cost may result in maintenance expenditure being the same as today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B06B-110C-4E2D-ABD2-5936D9A383C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Textfeld 11"/>
          <p:cNvSpPr/>
          <p:nvPr/>
        </p:nvSpPr>
        <p:spPr>
          <a:xfrm rot="20397600">
            <a:off x="48337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nts: list of principal difference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est rate:                 10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 rate:                   3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fe span of wagon:      25 year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nual mileage:          115,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nings are fixed and equivalent for both options. For this reason only the cost structure of the two options will be compar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marks concerning general assumptions for all options, comments and critical factor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wheelse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running gear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container loc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vance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container locks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E176-0976-42F4-8566-DD53A452BC3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Textfeld 20"/>
          <p:cNvSpPr/>
          <p:nvPr/>
        </p:nvSpPr>
        <p:spPr>
          <a:xfrm rot="20397600">
            <a:off x="55195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osition of Cost and Cycle Dat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st 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,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,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92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container lock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18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9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rrective maintenance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profiling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7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F970-CFC3-42F6-A385-2A35AC4A03D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2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2D2E-804E-4223-B288-52795BF1A81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Textfeld 4"/>
          <p:cNvSpPr/>
          <p:nvPr/>
        </p:nvSpPr>
        <p:spPr>
          <a:xfrm rot="20397600">
            <a:off x="59767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1"/>
          <a:stretch/>
        </p:blipFill>
        <p:spPr>
          <a:xfrm>
            <a:off x="22320" y="2252520"/>
            <a:ext cx="987876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3T13:14:47Z</dcterms:modified>
  <cp:revision>83</cp:revision>
  <dc:subject/>
  <dc:title>Slide 0</dc:title>
</cp:coreProperties>
</file>